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3F20-FE19-483A-8DF1-9FBFAFDCE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850F-2172-4EF5-B89F-49F4E682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A720-752F-4AE4-A310-28BDDA31E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0559-256A-4DAB-9322-690002658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AD7F-4E7A-4410-8AE0-3239EBBF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27AD-0E6A-42E3-8480-3392251A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FD65-06AF-4F03-AAFA-B6059481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78C7-6070-4693-A153-770B127D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913B-2077-46FC-8DC7-B1678F11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EBD3-8334-4751-B94C-9F9F6A46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21AA-D246-4ED1-AB4E-6F3B9374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9FB2-1284-44D5-9F66-019648EA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B4AC-1D08-43A0-A71B-E00406AE4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ears381class2011.wikispaces.com/Writing+Essential+Qs+for+Conceptual+Knowledge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9200" y="58680"/>
            <a:ext cx="932832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800"/>
            </a:br>
            <a:br>
              <a:rPr sz="4800"/>
            </a:b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Our Goals for Today:</a:t>
            </a:r>
            <a:br>
              <a:rPr sz="4800"/>
            </a:b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1480" y="2590560"/>
            <a:ext cx="807696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nish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odeling of Step One in Process of Unit Planning, Assign Our Culminating Project/Performance Task, Complete Process for Step One For Your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37600" y="294840"/>
            <a:ext cx="9664920" cy="19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t Purpose and Identify Desired Results:  First Step in Unit Planning Process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37600" y="1834920"/>
            <a:ext cx="9664920" cy="59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One:  Browse through Curriculum Map and Standards for BSD 9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e Language Arts.  What do we not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Two:  Consider Q3 unit (no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le notable Nouns and Adjectives (stated or implied Big Ide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a box around notable Verbs (performance task/culminating project ide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Three:  Look at the instructional and performance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nes are addres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Four:  Choose the “Core Tasks” for the unit.  Remember not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on too many. (We Chose  Repeat Step Tw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Five:  Brainstorm Essential Question Ideas (see UBD ch. 4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helm p.49-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Six:  Test against checklist (Wilhelm p.4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Seven:  Brainstorm possible performance tasks/culminat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s (Wilhelm p. 6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uns and Adjectives—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ig Ideas (Essential Q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2200320"/>
            <a:ext cx="42415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—some people struggle with writing essential qs for concepts like “character,” “point of view,” etc.  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examples of questions that address these concept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lo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le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ng Hu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2200320"/>
            <a:ext cx="42418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war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nes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ocri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ar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 tra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iend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rbs—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Task/Culminating Project Ide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200320"/>
            <a:ext cx="42415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and Contr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55920" y="2200320"/>
            <a:ext cx="42418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lustr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s 5 and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Five:  Brainstorm at Least three Essential Question Ideas (see UBD ch. 4 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helm p.49-5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Six:  Test against checklist (Wilhelm p.4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636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sential Question Id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8636040" cy="57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can you tell when or if prejudice is getting in the way of making the right decis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prejudice just about race or are there other kin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does prejudice come fr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es society’s social implications impact prejudi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 we stand to lose when we participate in a societal standard we know is wro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es point of view affect how stories are told?**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it matter who tells the story?  Whose story gets to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t ever okay to be dishone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all people deserve to be treated the same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coura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es prejudice guide people’s ac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makes a family?**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636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8636040" cy="57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Seven:  Brainstorm possible performance tasks/culminat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s (UBD chapter 7 and Wilhelm p. 6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il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V video that addresses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write a newspaper article that explains the tri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character inter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alk show with character inter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write a play of the trial, write an explanation of why they wrote what they 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ick a section of the book and retell from a different point of view, justify why do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7600" y="294840"/>
            <a:ext cx="9664920" cy="19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t Purpose and Identify Desired Results:  First Step in Unit Planning Process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37600" y="1834920"/>
            <a:ext cx="9664920" cy="59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One:  Look at the Curriculum Map for the unit you will use for the Annotated Unit Plan Portfol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rcle notable Nouns and Adjectives (stated or implied Big Idea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t a box around notable Verbs (performance task/culminating project idea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Three:  Look at the instructional and performance objecti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ones are addressed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Four:  From the instructional and performance objectives (standards)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oose the “Core Tasks” for the unit.  Remember not to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 on too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. (We Chose   Repeat Step Tw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Five:  Brainstorm Essential Question Ideas (see UBD ch. 4 an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lhelm p.49-5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Six:  Test against checklist (Wilhelm p.4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Seven:  Brainstorm possible performance tasks/culminating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ct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Wilhelm p. 6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here We Are Headed Nex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ansfer process to planning for your u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dentify skills necessary for completing performance task and acceptable evidence of understand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Backwards Plan/Plan Learning Experiences and Instruc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Phil Bear</cp:lastModifiedBy>
  <dcterms:modified xsi:type="dcterms:W3CDTF">2011-02-12T18:25:06Z</dcterms:modified>
  <cp:revision>11</cp:revision>
  <dc:subject/>
  <dc:title>PowerPoint Presentation</dc:title>
</cp:coreProperties>
</file>